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CBB-4CF4-4EEA-B3A8-4C44542B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211-4762-4701-BAF9-57B918D2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863-2D90-443E-A415-A0E0CA9B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F73-F1B9-461D-B65B-376DEAD2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A8A-3A11-4270-88E2-4AC23A7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887-D664-4784-95DD-126E874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2B8-0F32-47B2-BBF6-19E8E53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816-0331-42A8-AE15-164AF1AF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ED7-DE6C-4E9C-A28F-B62DBD2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F85-A6F2-4719-9127-FFEFDF9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3EC-CCFD-4E52-9240-D12F66B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F9D-2151-4D08-B438-89475E5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2759-B830-4040-9DAD-3D216C583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41440" y="11160"/>
            <a:ext cx="99378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Green caterpillar(Isalo)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nsect resembling a partially chewed leaf(Masoala NP)"/>
          <p:cNvPicPr/>
          <p:nvPr/>
        </p:nvPicPr>
        <p:blipFill>
          <a:blip r:embed="rId1"/>
          <a:stretch/>
        </p:blipFill>
        <p:spPr>
          <a:xfrm>
            <a:off x="1952640" y="146196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05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66960" y="723960"/>
            <a:ext cx="72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33480"/>
            <a:ext cx="73152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95560"/>
            <a:ext cx="4114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957240"/>
            <a:ext cx="76197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957240"/>
            <a:ext cx="76197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057320"/>
            <a:ext cx="7315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81200"/>
            <a:ext cx="73152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3040" y="723960"/>
            <a:ext cx="4057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6:40:09Z</dcterms:created>
  <dc:creator>John</dc:creator>
  <dc:description/>
  <dc:language>en-US</dc:language>
  <cp:lastModifiedBy>John</cp:lastModifiedBy>
  <dcterms:modified xsi:type="dcterms:W3CDTF">2006-11-25T17:18:57Z</dcterms:modified>
  <cp:revision>4</cp:revision>
  <dc:subject/>
  <dc:title>Slide 1</dc:title>
</cp:coreProperties>
</file>